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B607-A429-4985-8984-BFD80403956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3B04-7145-4B44-B7DB-10011B2E728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δικαιοδοσία (original jurisdiction) δίνει στο δικαστήριο το δικαίωμα να εκδικάζει μια υπόθεση σε πρώτο βαθμό. Η εφετική δικαιοδοσία (appellate jurisdiction) δίνει το δικαίωμα σε ένα δικαστήριο να εξετάζει αποφάσεις που έλαβαν κατώτερα δικαστήρ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47AB-540F-40FB-830D-D511BC1ACE4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καστικός ακτιβισμός (judicial activism) αναφέρεται στην ετοιμότητα των δικαστών να ξεφύγουν από τα στενά νομικά όρια προκειμένου να επηρεάσουν τη δημόσια πολιτική. Πρόκειται για το αντίθετο της δικαστικής αυτοσυγκράτησης (judicial restraint), μιας πιο συντηρητικής φιλοσοφίας, κατά την οποία οι δικαστές οφείλουν απλώς να εφαρμόζουν το νόμο (συμπεριλαμβανομένου του συντάγματος), χωρίς να υπολογίζουν τις πολιτικές συνέπειες ή τις δικές τους προσωπικές αξ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720D-E4C0-4DC3-9FB8-3B9407D9C44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ζήτημα της δικαστικής ανεξαρτησίας αποκτά μεγαλύτερη σημασία από τη στιγμή που αυξάνεται συνεχώς η πολιτική ισχύς της δικαστικής εξουσίας. Όμως, η δικαστική αυτονομία εξαρτάται σε μεγάλο βαθμό από τις διαδικασίες στελέχω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ένα άκρο συναντάμε τη δημοκρατική εκλογή. Η μέθοδος αυτή ισχύει σε ορισμένες αμερικανικές πολιτείες. Ανταποκρίνεται ασφαλώς περισσότερο, αν όχι σε υπερβολικό βαθμό, στους προβληματισμούς των πολιτώ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άλλο άκρο, η εκλογή των δικαστών από τους συναδέλφους τους (co-option) αποτελεί ίσως την ασφαλέστερη εγγύηση για την ανεξαρτησία της Δικαιοσύνης, όμως μπορεί να οδηγήσει σε μια αυτοδιαιωνιζόμενη ελίτ.</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Μεταξύ των δύο αυτών άκρων συναντάμε τις πιο συμβατικές μεθόδους: το διορισμό από το κοινοβούλιο, την εκτελεστική εξουσία, ή από ανεξάρτητες επιτροπέ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σε πολλές χώρες πλέον γίνεται ένας συνδυασμός αυτών των παραδοσιακών μεθόδων, με την κυβέρνηση να επιλέγει από μια λίστα υποψηφίων, την οποία έχει καταρτίσει κάποιος επαγγελματικός φορέας.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004E-A782-451F-BEEB-F5A2AA4DB7D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εσωτερική ανεξαρτησία (internal independence) αναφέρεται στην αυτονομία των χαμηλόβαθμων δικαστών από τους υψηλόβαθμους συναδέλφους τους, οι οποίοι συχνά καθορίζουν την επαγγελματική τους ανέλιξη. Όπου η αυτονομία είναι περιορισμένη, η δικαστική πρωτοβουλία πιθανόν να περιορίζε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330E-030F-4C33-BF22-1B7F5DDCE66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ιοικητικό δίκαιο (administrative law) θέτει τις αρχές που διέπουν τη λήψη αποφάσεων από τους δημόσιους φορείς και τον τρόπο επανόρθωσης σε περίπτωση παραβίασής τ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άξη Διοικητικών Διαδικασιών του 1946 στις ΗΠΑ ορίζει, για παράδειγμα, ότι τα δικαστήρια οφείλουν να κρίνουν ως παράνομη οποιαδήποτε διοικητική ενέργεια είναι «αυθαίρετη, απρόβλεπτη, παραβιάζει την αρχή της ορθοκρισίας ή γενικότερα δεν συνάδει προς το νόμ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1717-8178-4143-A9D3-B5C6BE4D6B3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σέγγιση αυτονομίας (separatist approach) στη διοικητική δικαιοσύνη (την οποία ασπάζεται, για παράδειγμα, η Γαλλία) αφορά τη σύσταση ειδικών δικαστηρίων και την ψήφιση ειδικών νόμων που αφορούν τη σχέση πολίτη και κρά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E455-E412-4C43-9A7A-06926277913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ωτική προσέγγιση (integrationist approach) (όπως ισχύει παραδοσιακά στη Βρετανία) ελέγχει τη γραφειοκρατία με την επίλυση των διαφορών στα τακτικά δικαστήρια, και βασίζεται σε μεγάλο βαθμό στους συνήθεις νόμους της χώρ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998B-C5F4-446E-B414-C36F4FD4958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απολυταρχικά καθεστώτα, τα συντάγματα είναι κείμενα χωρίς καμιά ισχύ. Τα αυταρχικά καθεστώτα στηρίζονται εξ ορισμού στην ανυπαρξία οποιουδήποτε περιορισμού της εξουσίας. Το πολιτικό νόμισμα σε αυτές τις χώρες είναι η δύναμη, και όχι ο νόμ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μη δημοκρατικοί ηγέτες έχουν να επιλέξουν μεταξύ δύο ευρύτερων στρατηγικών περιορισμού της δικαστικής εξουσίας. Η πρώτη είναι να διατηρήσουν μεν κάποιο νομικό πλαίσιο, ασκώντας, όμως, παράλληλα έμμεση επιρροή στους δικαστέ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ύτερη στρατηγική, πιο απροσχημάτιστη και αποτελεσματική, είναι η πλήρης παράκαμψη της δικαστικής διαδικασίας. Πολλά μη δημοκρατικά καθεστώτα κηρύττουν, για παράδειγμα, τη χώρα σε Κατάσταση Έκτακτης Ανάγκης, αποφεύγοντας εξ ολοκλήρου τον δικαστικό έλεγχο.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AC06-B5A4-48E7-8071-632E1AAB7B0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ξ ορισμού, τα συντάγματα και το δίκαιο ωχριούν μπροστά στους εκλεγμένους κυβερνώντες στις ανελεύθερες δημοκρατίες. Ο ηγέτης εκλέγεται με βάση κάποιο συνταγματικό πλαίσιο, ωστόσο το πλαίσιο αυτό έχει συνήθως διαμορφωθεί από τον ίδιο τον ηγέτη. Ακόμη πιο σημαντικό είναι το γεγονός ότι η άσκηση της εξουσίας σπανίως υφίσταται τους περιορισμούς μιας ανεξάρτητης δικαστικής εξουσίας. Ο πρόεδρος είναι αυτός που έχει το πάνω χέρι, ορίζοντας το εθνικό συμφέρον με την ευρεία νομιμοποίηση που του δόθηκε από τους ψηφοφόρους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A7BD-C728-4D9B-B659-F8E2F35F09B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ράτος δικαίου (rule of law) είναι ένας δυτικός και κατεξοχήν αγγλοαμερικανικός όρος. Συνδέεται με πολλές έννοιες, όπως η εφαρμογή του νόμου, η ισονομία και η τήρηση της νομιμότητας (due process) (δηλαδή ο σεβασμός στα νομικά δικαιώματα του ατόμ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0F29-8878-4B7C-8FA7-0ACE4363977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ομικός πλουραλισμός (legal pluralism) είναι η συνύπαρξη περισσότερων του ενός συστημάτων δικαίου στο εσωτερικό ενός κράτους. Στα σχετικά παραδείγματα ανήκει η συνύπαρξη του διεθνούς με το εθνικό δίκαιο, του θρησκευτικού με το κοσμικό και του δικαίου των αυτόχθονων πληθυσμών με το δίκαιο των εποίκων.</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2D66-FAF3-4BC7-AF3D-7407FA3AF60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ίκαιο των αυτόχθονων πληθυσμών (indigenous law) αναφέρεται στους κανόνες, στα πρότυπα και στα έθιμα των γηγενών μιας περιοχής, κυρίως σε πρώην αποικίες. Σύμφωνα με τη Διακήρυξη των Ηνωμένων Εθνών για τα Δικαιώματα των Αυτόχθονων Πληθυσμών (2007), θα πρέπει να διασφαλίζεται ότι οι αυτόχθονες πληθυσμοί έχουν το δικαίωμα να διατηρούν και να ενισχύουν τους ξεχωριστούς πολιτικούς, νομικούς, οικονομικούς, κοινωνικούς και πολιτισμικούς τους θεσμού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ισλαμικό δίκαιο (islamic law) βασίζεται στη Σαρία, η οποία, με τη σειρά της, είναι εμπνευσμένη από το Κοράνι (τις αποκαλύψεις του Μωάμεθ) και το Χαντίθ (ισλαμική παράδοση γύρω από τους λόγους και τα έργα του προφήτη). Η Σαρία και το Χαντίθ υφίστανται επεξεργασία και προσαρμογή με βάση τη θρησκευτική νομολογία του Ισλάμ, γνωστή ως fiqh (κατανόηση). Με βάση το fiqh, όλες οι ανθρώπινες πράξεις διαιρούνται σε πέντε κατηγορίες. Μία πράξη είναι υποχρεωτική, συνιστώμενη, ουδέτερη, καταδικαστέα ή απαγορευμέν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ιεθνές δίκαιο (international law) ορίζεται παραδοσιακά ως το σύστημα κανόνων με δεσμευτική ισχύ για τα κράτη και τους άλλους δρώντες του διεθνούς συστήματος. Πηγές του είναι οι συνθήκες, το έθιμο, οι παραδεδεγμένες αρχές και οι απόψεις των νομικών αυθεντιών. Ο όρος διεθνές δίκαιο επινοήθηκε από τον άγγλο φιλόσοφο Jeremy Bentham (1748-1832). Σήμερα, ωστόσο, πολλές διεθνείς συμφωνίες επιβάλλουν υποχρεώσεις στο εσωτερικό των κρατών, σε τομείς όπως η μείωση της ρύπανση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CE0C-40C5-4EBF-85FC-28339535F8A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οινό δίκαιο (common law), το οποίο συναντάμε στην Αγγλία και σε πολλές από τις πρώην αποικίες της, συνθέτουν οι αποφάσεις των δικαστών σε ζητήματα τα οποία δεν προβλέπονται ρητά από τη νομοθεσία. Το κοινό δίκαιο βασίζεται σε δικαστικά προηγούμενα, δηλαδή σε αποφάσεις επί παλαιότερων υποθέσε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B1E0-0CBC-4867-A0B6-844B045ACB0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ιο διαδεδομένο σύστημα του αστικού δικαίου (civil law), οι δικαστές καταλήγουν σε αποφάσεις εφαρμόζοντας εκτεταμένους γραπτούς κώδικες, και όχι βάσει νομολογίας. Το αστικό δίκαιο προέρχεται από τους κώδικες του ρωμαϊκού δικαίου (Roman law) (επίσης δεν σχετίζεται με την αστική υπόθεση, όρος που υποδηλώνει τη μη ποινική φύση μιας υπόθε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2B60-462C-42D0-B7C4-2523704F75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ύνταγμα (constitution) προσδιορίζει την επίσημη δομή του κράτους, καθορίζοντας τις εξουσίες και τους θεσμούς της κεντρικής κυβέρνησης, και τις σχέσεις αυτής με τα υπόλοιπα επίπεδα. Επιπλέον, το σύνταγμα διατυπώνει τα δικαιώματα των πολιτών και, κατ' αυτό τον τρόπο, θέτει τα όρια και τις υποχρεώσεις των κυβερνητικών θεσμ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ωδικοποιημένο (codified) σύνταγμα διατυπώνεται λεπτομερώς στο πλαίσιο ενός ενιαίου εγγράφου, ενώ το μη κωδικοποιημένο (uncodified) σύνταγμα απαντάται σε πλήθος εγγράφων και επηρεάζεται από την παράδοση και το έθιμ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9C28-37C9-4A8D-9ABD-F00C4116564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υντάγματα έχουν συνήθως την ακόλουθη δομή</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οοίμιο ζητά από το λαό την τήρηση του συντάγματος, κάνοντας μια συναισθηματική διακήρυξη αρχών, ενίοτε δηλώνοντας και τους σκοπούς του κράτ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δεύτερη ενότητα καθορίζει τη μορφή του πολιτεύματος και τις εξουσίες των κυβερνητικών θεσμώ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διακήρυξη δικαιωμάτων καλύπτει τα ατομικά -ενίοτε και τα συλλογικά- δικαιώματα, όπως είναι η δυνατότητα της δικαστικής επανόρθωση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αδικασίες αναθεώρησης προσδιορίζουν τις δέουσες διαδικασίες για την αναθεώρηση του συντάγματο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59FF-BF2B-4A41-9560-47B6D3B5057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ευέλικτα (flexible) συντάγματα αναθεωρούνται με την ίδια διαδικασία που ισχύει για την κοινή νομοθεσία. Η Βρετανία είναι το σημαντικότερο παράδειγμα. Αντίθετα, τα αυστηρά (rigid) συντάγματα είναι συνταγματικώς κατοχυρωμένα, δηλαδή ορίζουν ειδική διαδικασία για την αναθεώρησή τους, όπως η προϋπόθεση ειδικής ή παράλληλης πλειοψηφία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4A5B-982D-4A00-B297-4FDC45CBD40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νέα συντάγματα συνήθως εντάσσονται στο πλαίσιο της νέας αρχής που διαδέχεται περιόδους ανωμαλίας, όπως καθεστωτικές αλλαγές, ανοικοδόμηση του κράτους μετά από κάποια πολεμική ήττα ή επίτευξη της ανεξαρτησί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ερισσότερα συντάγματα έχουν δύσκολη γέννα. Αποτελούν συχνά το προϊόν του συμβιβασμού στον οποίο καταλήγουν πολιτικοί δρώντες που κατά το παρελθόν βρέθηκαν σε σύγκρουση.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8C38-991D-4F19-8592-6E69D04BEA8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καστικός έλεγχος (judical review) είναι η εξουσία των τακτικών ή ειδικών δικαστηρίων να ακυρώνουν τους νόμους και τις εκτελεστικές πράξεις που έρχονται σε σύγκρουση με το σύνταγ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άχυτος δικαστικός έλεγχος (abstract review) ασκείται αποκλειστικά από τα συνταγματικά δικαστήρια, και αποτελεί συμβουλευτική αλλά δεσμευτική γνώμη επί νομοσχεδίο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αρεμπίπτων δικαστικός έλεγχος (concrete review) ασκείται τόσο από τα συνταγματικά όσο και από τα ανώτατα δικαστήρια στο πλαίσιο συγκεκριμένης υπόθεση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38445-16D8-4A3C-814D-6E3860874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26A9D-A234-419A-B00C-F0BE53BB9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4778E-64C7-4224-A91A-2C0562AFA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F904D-4B37-48CF-B3D7-5E70552AE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C4D92-7DD7-4D8D-BD64-6174A059E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F1C19-346D-4ED9-883D-48A86C93B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3EE6F-70D9-453D-A676-B8EF0BBA4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8F6FA-1FD7-43B6-AA37-6871ACB79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DC89E-343E-46FD-8042-9A6DABB8F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82964-87EC-4D33-9126-0A462ACE0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EE66F-02CC-4C59-90D2-75EF521E4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391AE-7667-4BC6-B353-BE28EA658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644A8-A3E0-48B9-B56D-1D8FC9739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8A641-BFD5-401D-9B80-D9171C516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96E58-EFFC-45A5-90A1-2764ED87A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89B82-160A-4BF5-BCA6-83277EAFA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7BCC4-7744-4E97-A7F9-429B3AB2E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E9B3F-3702-4161-8358-E8C0F4D76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29DC0-8946-4E05-9CFD-13D68B071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6746C-369A-4E70-B9C2-DD33ACC7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CC06B-275D-47C2-A730-CD039516F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A2DE-B0D8-4797-AED1-E094F68AA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1F895-1D8E-46EC-A41D-8AFBC84C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351A0-09F4-4A25-80E6-FCB2E775A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0651-0202-4E86-AD0F-B5A13C30EA06}"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72F1-D17C-4156-85DB-21634C545278}"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3</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τάγματα και δίκαι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 δικαστικός έλεγχος και </a:t>
            </a:r>
            <a:br>
              <a:rPr sz="3800"/>
            </a:br>
            <a:r>
              <a:rPr b="0" lang="el-GR" sz="3800" spc="-1" strike="noStrike">
                <a:solidFill>
                  <a:srgbClr val="660033"/>
                </a:solidFill>
                <a:latin typeface="Times New Roman"/>
              </a:rPr>
              <a:t>τα συνταγματικά δικαστήρια</a:t>
            </a:r>
            <a:endParaRPr b="0" lang="en-US" sz="3800" spc="-1" strike="noStrike">
              <a:solidFill>
                <a:srgbClr val="660033"/>
              </a:solidFill>
              <a:latin typeface="Times New Roman"/>
            </a:endParaRPr>
          </a:p>
        </p:txBody>
      </p:sp>
      <p:pic>
        <p:nvPicPr>
          <p:cNvPr id="123" name="Picture 4" descr=""/>
          <p:cNvPicPr/>
          <p:nvPr/>
        </p:nvPicPr>
        <p:blipFill>
          <a:blip r:embed="rId1"/>
          <a:stretch/>
        </p:blipFill>
        <p:spPr>
          <a:xfrm>
            <a:off x="1066680" y="1676520"/>
            <a:ext cx="7315200" cy="467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 δικαστικός έλεγχος και </a:t>
            </a:r>
            <a:br>
              <a:rPr sz="3800"/>
            </a:br>
            <a:r>
              <a:rPr b="0" lang="el-GR" sz="3800" spc="-1" strike="noStrike">
                <a:solidFill>
                  <a:srgbClr val="660033"/>
                </a:solidFill>
                <a:latin typeface="Times New Roman"/>
              </a:rPr>
              <a:t>τα συνταγματικά δικαστήρια</a:t>
            </a:r>
            <a:endParaRPr b="0" lang="en-US" sz="38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ρχική δικαιοδοσία (original jurisdiction) δίνει στο δικαστήριο το δικαίωμα να εκδικάζει μια υπόθεση σε πρώτο βαθμό. Η εφετική δικαιοδοσία (appellate jurisdiction) δίνει το δικαίωμα σε ένα δικαστήριο να εξετάζει αποφάσεις που έλαβαν κατώτερα δικαστήρι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καστικός ακτιβισμός</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ικαστικός ακτιβισμός (judicial activism) αναφέρεται στην ετοιμότητα των δικαστών να ξεφύγουν από τα στενά νομικά όρια προκειμένου να επηρεάσουν τη δημόσια πολιτικ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Δικαστική ανεξαρτησία και στελέχωση</a:t>
            </a:r>
            <a:endParaRPr b="0" lang="en-US" sz="3800" spc="-1" strike="noStrike">
              <a:solidFill>
                <a:srgbClr val="660033"/>
              </a:solidFill>
              <a:latin typeface="Times New Roman"/>
            </a:endParaRPr>
          </a:p>
        </p:txBody>
      </p:sp>
      <p:sp>
        <p:nvSpPr>
          <p:cNvPr id="129" name="PlaceHolder 2"/>
          <p:cNvSpPr>
            <a:spLocks noGrp="1"/>
          </p:cNvSpPr>
          <p:nvPr>
            <p:ph/>
          </p:nvPr>
        </p:nvSpPr>
        <p:spPr>
          <a:xfrm>
            <a:off x="914400" y="1599840"/>
            <a:ext cx="7772400" cy="60948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3.2: Μέθοδοι επιλογής δικαστών</a:t>
            </a:r>
            <a:endParaRPr b="0" lang="en-US" sz="2000" spc="-1" strike="noStrike">
              <a:solidFill>
                <a:srgbClr val="000000"/>
              </a:solidFill>
              <a:latin typeface="Arial"/>
            </a:endParaRPr>
          </a:p>
        </p:txBody>
      </p:sp>
      <p:pic>
        <p:nvPicPr>
          <p:cNvPr id="130" name="Picture 4" descr="C:\Users\EPIMELEIA\Dropbox\Kritiki-Book-Proofing\14-sigritiki-politiki-hague\images\Hag_Fig_13_02.png"/>
          <p:cNvPicPr/>
          <p:nvPr/>
        </p:nvPicPr>
        <p:blipFill>
          <a:blip r:embed="rId1"/>
          <a:stretch/>
        </p:blipFill>
        <p:spPr>
          <a:xfrm>
            <a:off x="714240" y="2286000"/>
            <a:ext cx="8277480" cy="1476360"/>
          </a:xfrm>
          <a:prstGeom prst="rect">
            <a:avLst/>
          </a:prstGeom>
          <a:ln w="9360">
            <a:solidFill>
              <a:srgbClr val="ffadd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Δικαστική ανεξαρτησία και στελέχωση</a:t>
            </a:r>
            <a:endParaRPr b="0" lang="en-US" sz="3800" spc="-1" strike="noStrike">
              <a:solidFill>
                <a:srgbClr val="66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εσωτερική ανεξαρτησία (internal independence) αναφέρεται στην αυτονομία των χαμηλόβαθμων δικαστών από τους υψηλόβαθμους συναδέλφους τους, οι οποίοι συχνά καθορίζουν την επαγγελματική τους ανέλιξη. Όπου η αυτονομία είναι περιορισμένη, η δικαστική πρωτοβουλία πιθανόν να περιορίζετα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οικητικό δίκαιο</a:t>
            </a:r>
            <a:endParaRPr b="0" lang="en-US" sz="4200" spc="-1" strike="noStrike">
              <a:solidFill>
                <a:srgbClr val="66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διοικητικό δίκαιο (administrative law) θέτει τις αρχές που διέπουν τη λήψη αποφάσεων από τους δημόσιους φορείς και τον τρόπο επανόρθωσης σε περίπτωση παραβίασής 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οικητικό δίκαιο</a:t>
            </a:r>
            <a:endParaRPr b="0" lang="en-US" sz="4200" spc="-1" strike="noStrike">
              <a:solidFill>
                <a:srgbClr val="66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ροσέγγιση αυτονομίας (separatist approach) στη διοικητική δικαιοσύνη (την οποία ασπάζεται, για παράδειγμα, η Γαλλία) αφορά τη σύσταση ειδικών δικαστηρίων και την ψήφιση ειδικών νόμων που αφορούν τη σχέση πολίτη και κρά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ιοικητικό δίκαιο</a:t>
            </a:r>
            <a:endParaRPr b="0" lang="en-US" sz="4200" spc="-1" strike="noStrike">
              <a:solidFill>
                <a:srgbClr val="66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νωτική προσέγγιση (integrationist approach) (όπως ισχύει παραδοσιακά στη Βρετανία) ελέγχει τη γραφειοκρατία με την επίλυση των διαφορών στα τακτικά δικαστήρια, και βασίζεται σε μεγάλο βαθμό στους συνήθεις νόμους της χώρα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 δίκαιο </a:t>
            </a:r>
            <a:br>
              <a:rPr sz="4200"/>
            </a:br>
            <a:r>
              <a:rPr b="0" lang="el-GR" sz="4200" spc="-1" strike="noStrike">
                <a:solidFill>
                  <a:srgbClr val="660033"/>
                </a:solidFill>
                <a:latin typeface="Times New Roman"/>
              </a:rPr>
              <a:t>στα απολυταρχικά κράτη</a:t>
            </a:r>
            <a:endParaRPr b="0" lang="en-US" sz="4200" spc="-1" strike="noStrike">
              <a:solidFill>
                <a:srgbClr val="66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συνταγματικά κείμενα δεν έχουν καμία ισχύ</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καστική εξουσία είναι περιορισμένη</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άρχει κάποιο νομικό πλαίσιο, αλλά ασκείται έμμεση επιρροή στους δικαστές από την πολιτική ηγεσ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ήρης παράκαμψη της δικαστικής διαδικασίας</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Το δίκαιο </a:t>
            </a:r>
            <a:br>
              <a:rPr sz="4200"/>
            </a:br>
            <a:r>
              <a:rPr b="0" lang="el-GR" sz="4200" spc="-1" strike="noStrike">
                <a:solidFill>
                  <a:srgbClr val="660033"/>
                </a:solidFill>
                <a:latin typeface="Times New Roman"/>
              </a:rPr>
              <a:t>στις ανελεύθερες δημοκρατίες</a:t>
            </a:r>
            <a:endParaRPr b="0" lang="en-US" sz="4200" spc="-1" strike="noStrike">
              <a:solidFill>
                <a:srgbClr val="66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ηγέτης εκλέγεται με βάση το συνταγματικό πλαίσιο που ο ίδιος έχει διαμορφώσει</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ξουσία σπάνια υφίσταται τους περιορισμούς μιας ανεξάρτητης δικαστικής εξουσί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ράτος δικαίου (rule of law) είναι ένας δυτικός και κατεξοχήν αγγλοαμερικανικός όρος. Συνδέεται με πολλές έννοιες, όπως η εφαρμογή του νόμου, η ισονομία και η τήρηση της νομιμότητας (due process) (δηλαδή ο σεβασμός στα νομικά δικαιώματα του ατόμου).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Kleinfeld,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ομικός πλουραλισμός</a:t>
            </a:r>
            <a:endParaRPr b="0" lang="en-US" sz="4200" spc="-1" strike="noStrike">
              <a:solidFill>
                <a:srgbClr val="66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ικός πλουραλισμός (legal pluralism) είναι η συνύπαρξη περισσότερων του ενός συστημάτων δικαίου στο εσωτερικό ενός κράτους. Στα σχετικά παραδείγματα ανήκει η συνύπαρξη του διεθνούς με το εθνικό δίκαιο, του θρησκευτικού με το κοσμικό και του δικαίου των αυτόχθονων πληθυσμών με το δίκαιο των εποίκων. </a:t>
            </a:r>
            <a:endParaRPr b="0" lang="en-US" sz="2800" spc="-1" strike="noStrike">
              <a:solidFill>
                <a:srgbClr val="000000"/>
              </a:solidFill>
              <a:latin typeface="Arial"/>
            </a:endParaRPr>
          </a:p>
          <a:p>
            <a:pPr lvl="1" marL="74304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Griffiths, 198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Νομικός πλουραλισμός</a:t>
            </a:r>
            <a:endParaRPr b="0" lang="en-US" sz="4200" spc="-1" strike="noStrike">
              <a:solidFill>
                <a:srgbClr val="66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ίζονες πηγές δικαίου που επηρεάζουν τα εθνικά δικαστικά συστήματ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ίκαιο των αυτόχθονων πληθυσμώ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σλαμικό δίκα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εθνές δίκαι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οινό δίκαιο (common law), το οποίο συναντάμε στην Αγγλία και σε πολλές από τις πρώην αποικίες της, συνθέτουν οι αποφάσεις των δικαστών σε ζητήματα τα οποία δεν προβλέπονται ρητά από τη νομοθεσία. Το κοινό δίκαιο βασίζεται σε δικαστικά προηγούμενα, δηλαδή σε αποφάσεις επί παλαιότερων υποθέσε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ισαγωγή</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πιο διαδεδομένο σύστημα του αστικού δικαίου (civil law), οι δικαστές καταλήγουν σε αποφάσεις εφαρμόζοντας εκτεταμένους γραπτούς κώδικες, και όχι βάσει νομολογίας. Το αστικό δίκαιο προέρχεται από τους κώδικες του ρωμαϊκού δικαίου (Roman law) (επίσης δεν σχετίζεται με την αστική υπόθεση, όρος που υποδηλώνει τη μη ποινική φύση μιας υπόθεση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ντάγματα</a:t>
            </a:r>
            <a:endParaRPr b="0" lang="en-US" sz="42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σύνταγμα (constitution) προσδιορίζει την επίσημη δομή του κράτους, καθορίζοντας τις εξουσίες και τους θεσμούς της κεντρικής κυβέρνησης, και τις σχέσεις αυτής με τα υπόλοιπα επίπεδα. Επιπλέον, το σύνταγμα διατυπώνει τα δικαιώματα των πολιτών και, κατ' αυτό τον τρόπο, θέτει τα όρια και τις υποχρεώσεις των κυβερνητικών θεσμώ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υνήθης μορφή των συνταγμάτων</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οοίμ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ορφή πολιτεύ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κήρυξη δικαιωμάτω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αδικασίες αναθεώρησης </a:t>
            </a:r>
            <a:endParaRPr b="0" lang="en-US" sz="2600" spc="-1" strike="noStrike">
              <a:solidFill>
                <a:srgbClr val="000000"/>
              </a:solidFill>
              <a:latin typeface="Arial"/>
            </a:endParaRPr>
          </a:p>
        </p:txBody>
      </p:sp>
      <p:sp>
        <p:nvSpPr>
          <p:cNvPr id="115"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ντάγματα</a:t>
            </a:r>
            <a:endParaRPr b="0" lang="en-US" sz="42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ντάγματα</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θεώρηση</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υέλικτα συντάγματ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υστηρά συντάγματ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Συντάγματα</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τορική καταγωγή</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ντάσσονται στο πλαίσιο της νέας αρχής μετά από περιόδους ανωμαλ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τελούν συχνά προϊόν πολιτικού συμβιβασμού</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 δικαστικός έλεγχος και </a:t>
            </a:r>
            <a:br>
              <a:rPr sz="3800"/>
            </a:br>
            <a:r>
              <a:rPr b="0" lang="el-GR" sz="3800" spc="-1" strike="noStrike">
                <a:solidFill>
                  <a:srgbClr val="660033"/>
                </a:solidFill>
                <a:latin typeface="Times New Roman"/>
              </a:rPr>
              <a:t>τα συνταγματικά δικαστήρια</a:t>
            </a:r>
            <a:endParaRPr b="0" lang="en-US" sz="38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ικαστικός έλεγχος (judical review) είναι η εξουσία των τακτικών ή ειδικών δικαστηρίων να ακυρώνουν τους νόμους και τις εκτελεστικές πράξεις που έρχονται σε σύγκρουση με το σύνταγμ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05:41:42Z</dcterms:created>
  <dc:creator>pc</dc:creator>
  <dc:description/>
  <dc:language>en-US</dc:language>
  <cp:lastModifiedBy>EPIMELEIA</cp:lastModifiedBy>
  <dcterms:modified xsi:type="dcterms:W3CDTF">2013-09-23T09:47:36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